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45F-22D1-4814-BDC8-658D04DE28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20F-6A2E-4BF5-9067-794EBAD708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619-3D82-492F-BAAA-E7DEA32337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FD1-F05A-4775-8F28-5D31C6F88A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A10-FC54-4600-AF33-4227D0363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FD2-EC23-41A6-B814-9961117E9E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DC4-DC8C-40DC-B0EC-6EA6093DB9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6B0-C43C-4C7C-98E1-C2B6EC6D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EDB-278F-49A2-A938-2A9FDF9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B62-4EF0-4080-90BE-F7135689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B6A-F25D-457B-8CD1-4F3AB398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720-13C9-45A6-A0B6-71C7710E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1C1-CE59-4818-A969-CC3ABB0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BEE-1CA7-47DF-8485-B33E5DB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342-4917-41E1-A398-C203F408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2F3-8280-44BB-9001-0C03045A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85E-42D7-49D6-A4CF-8F395E3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CF8-052D-43F9-9CBE-4D97697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1E5-D8FD-4C51-9927-28F9D2E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19D3-C511-4486-A4AE-F37993773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5160" y="11430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ch Savvy Seniors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Cybersecurity Refres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C:\Program Files (x86)\Microsoft Office XP\Media\CntCD1\ClipArt5\j0285374.wmf"/>
          <p:cNvPicPr/>
          <p:nvPr/>
        </p:nvPicPr>
        <p:blipFill>
          <a:blip r:embed="rId2"/>
          <a:stretch/>
        </p:blipFill>
        <p:spPr>
          <a:xfrm>
            <a:off x="304920" y="3641760"/>
            <a:ext cx="3200400" cy="296208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3657600" y="3591000"/>
            <a:ext cx="4572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Woodrising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Neighbourhood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Centre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ff0000"/>
                </a:solidFill>
                <a:uFillTx/>
                <a:latin typeface="Calibri"/>
              </a:rPr>
              <a:t>Survey</a:t>
            </a:r>
            <a:r>
              <a:rPr b="1" lang="en-AU" sz="4400" spc="-1" strike="noStrike">
                <a:solidFill>
                  <a:srgbClr val="ff0000"/>
                </a:solidFill>
                <a:latin typeface="Calibri"/>
              </a:rPr>
              <a:t> - Have Yo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Up to date antivir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838080" y="24382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A Firewal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838080" y="329076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Passwords like 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Mha11ifwwa5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838080" y="5018040"/>
            <a:ext cx="7991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Read ‘The Little Black Book of Scams’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838080" y="4129200"/>
            <a:ext cx="7991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  <a:ea typeface="Arial"/>
              </a:rPr>
              <a:t>Installed unwanted program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5T10:28:10Z</dcterms:modified>
  <cp:revision>134</cp:revision>
  <dc:subject/>
  <dc:title>Where To Start</dc:title>
</cp:coreProperties>
</file>